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D873-E1F3-4392-AC22-E96247A6A87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3C4B-43ED-42CB-AE7F-A8B8641003B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477A-8C71-4A55-A3FA-32BB1DF18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C525-3298-4C9A-8B3F-75C5CE40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83A9-C140-4F69-8225-B656343AB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B4AF-80C3-48F3-9D8D-57127F978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FB46-CE5E-4738-911D-248F80FA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4491-1D33-4B29-8BCF-6A307029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682E-BF74-4920-A0CD-55BFF1F6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1A72-40EA-41CF-A3E1-10895C07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B7A5-CCCA-41AD-8BDF-56ADBECA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81B8-0A5F-4CCA-9AEE-5FB35CA5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BABD-DB39-4CA8-A128-CB15F52C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EA64-A672-46C7-BC47-52347CCF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64AA-35A9-4675-BFA4-0D944FD1AE1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93 Conector recto de flecha"/>
          <p:cNvCxnSpPr/>
          <p:nvPr/>
        </p:nvCxnSpPr>
        <p:spPr>
          <a:xfrm>
            <a:off x="2000160" y="4785840"/>
            <a:ext cx="4929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9" name="91 Conector recto de flecha"/>
          <p:cNvCxnSpPr/>
          <p:nvPr/>
        </p:nvCxnSpPr>
        <p:spPr>
          <a:xfrm flipH="1">
            <a:off x="4428360" y="4056120"/>
            <a:ext cx="1080" cy="174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50" name="86 Conector recto de flecha"/>
          <p:cNvCxnSpPr/>
          <p:nvPr/>
        </p:nvCxnSpPr>
        <p:spPr>
          <a:xfrm>
            <a:off x="2071800" y="1399680"/>
            <a:ext cx="4929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51" name="84 Conector recto de flecha"/>
          <p:cNvCxnSpPr/>
          <p:nvPr/>
        </p:nvCxnSpPr>
        <p:spPr>
          <a:xfrm flipH="1">
            <a:off x="4571280" y="642960"/>
            <a:ext cx="1080" cy="1643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52" name="Text Box 45"/>
          <p:cNvSpPr/>
          <p:nvPr/>
        </p:nvSpPr>
        <p:spPr>
          <a:xfrm>
            <a:off x="228600" y="6224760"/>
            <a:ext cx="1857240" cy="5202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Organizador gráfico 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3"/>
          <p:cNvSpPr/>
          <p:nvPr/>
        </p:nvSpPr>
        <p:spPr>
          <a:xfrm>
            <a:off x="3571920" y="1192320"/>
            <a:ext cx="18572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l terror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1"/>
          <p:cNvSpPr/>
          <p:nvPr/>
        </p:nvSpPr>
        <p:spPr>
          <a:xfrm>
            <a:off x="3643200" y="65160"/>
            <a:ext cx="178596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so indiscrimin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 la violencia co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trategia político-milit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8"/>
          <p:cNvSpPr/>
          <p:nvPr/>
        </p:nvSpPr>
        <p:spPr>
          <a:xfrm>
            <a:off x="3929040" y="1627200"/>
            <a:ext cx="121464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se manifiesta 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63"/>
          <p:cNvSpPr/>
          <p:nvPr/>
        </p:nvSpPr>
        <p:spPr>
          <a:xfrm>
            <a:off x="3500280" y="4533840"/>
            <a:ext cx="185760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nfli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eci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8"/>
          <p:cNvSpPr/>
          <p:nvPr/>
        </p:nvSpPr>
        <p:spPr>
          <a:xfrm>
            <a:off x="4071960" y="770040"/>
            <a:ext cx="85716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sus re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1"/>
          <p:cNvSpPr/>
          <p:nvPr/>
        </p:nvSpPr>
        <p:spPr>
          <a:xfrm>
            <a:off x="285840" y="928800"/>
            <a:ext cx="1847880" cy="85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rmamentis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taques a población civ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ecuestros masiv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taques a infraestructu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lianzas delictiv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1"/>
          <p:cNvSpPr/>
          <p:nvPr/>
        </p:nvSpPr>
        <p:spPr>
          <a:xfrm>
            <a:off x="6934320" y="957240"/>
            <a:ext cx="1852560" cy="85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rmamentis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taques a población civ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ecuestros masiv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taques a infraestructu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lianzas delictiv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1"/>
          <p:cNvSpPr/>
          <p:nvPr/>
        </p:nvSpPr>
        <p:spPr>
          <a:xfrm>
            <a:off x="2071800" y="2286000"/>
            <a:ext cx="157140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guerrillas de extre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zquier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1"/>
          <p:cNvSpPr/>
          <p:nvPr/>
        </p:nvSpPr>
        <p:spPr>
          <a:xfrm>
            <a:off x="3786120" y="2286000"/>
            <a:ext cx="157176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ilicias de extre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rec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1"/>
          <p:cNvSpPr/>
          <p:nvPr/>
        </p:nvSpPr>
        <p:spPr>
          <a:xfrm>
            <a:off x="5572080" y="2279520"/>
            <a:ext cx="121464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ovimien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eligio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fundamentalist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1"/>
          <p:cNvSpPr/>
          <p:nvPr/>
        </p:nvSpPr>
        <p:spPr>
          <a:xfrm>
            <a:off x="3714840" y="3124080"/>
            <a:ext cx="1542960" cy="85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nfrentamien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rmados inter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o trasnacional 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generan inestabil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nternac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98"/>
          <p:cNvSpPr/>
          <p:nvPr/>
        </p:nvSpPr>
        <p:spPr>
          <a:xfrm>
            <a:off x="3809880" y="4183200"/>
            <a:ext cx="140508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forman parte 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1"/>
          <p:cNvSpPr/>
          <p:nvPr/>
        </p:nvSpPr>
        <p:spPr>
          <a:xfrm>
            <a:off x="1928880" y="5799240"/>
            <a:ext cx="157140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 terroris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1"/>
          <p:cNvSpPr/>
          <p:nvPr/>
        </p:nvSpPr>
        <p:spPr>
          <a:xfrm>
            <a:off x="3643200" y="5799240"/>
            <a:ext cx="157176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 crimen organizado transnac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1"/>
          <p:cNvSpPr/>
          <p:nvPr/>
        </p:nvSpPr>
        <p:spPr>
          <a:xfrm>
            <a:off x="5429160" y="5794200"/>
            <a:ext cx="135756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proliferación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mercio de arm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8"/>
          <p:cNvSpPr/>
          <p:nvPr/>
        </p:nvSpPr>
        <p:spPr>
          <a:xfrm>
            <a:off x="3857760" y="5199120"/>
            <a:ext cx="121428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se manifiesta 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1"/>
          <p:cNvSpPr/>
          <p:nvPr/>
        </p:nvSpPr>
        <p:spPr>
          <a:xfrm>
            <a:off x="214200" y="3505320"/>
            <a:ext cx="1843200" cy="19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confrontación étnica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eligiosa, política o soci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disputa por riquez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atural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er "guerras de lar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guante" sin medios p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onerles fi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 uso de la violen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tra la población civi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s actores arm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tablecen vínculos con 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rimen organizad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1"/>
          <p:cNvSpPr/>
          <p:nvPr/>
        </p:nvSpPr>
        <p:spPr>
          <a:xfrm>
            <a:off x="6929280" y="4599000"/>
            <a:ext cx="150048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s conflictos tip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 la Guerra F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98"/>
          <p:cNvSpPr/>
          <p:nvPr/>
        </p:nvSpPr>
        <p:spPr>
          <a:xfrm>
            <a:off x="2428920" y="1198440"/>
            <a:ext cx="928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caracteriza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p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98"/>
          <p:cNvSpPr/>
          <p:nvPr/>
        </p:nvSpPr>
        <p:spPr>
          <a:xfrm>
            <a:off x="5715000" y="1270080"/>
            <a:ext cx="71424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difiere 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98"/>
          <p:cNvSpPr/>
          <p:nvPr/>
        </p:nvSpPr>
        <p:spPr>
          <a:xfrm>
            <a:off x="2286000" y="4572000"/>
            <a:ext cx="857160" cy="5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caracteriz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p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98"/>
          <p:cNvSpPr/>
          <p:nvPr/>
        </p:nvSpPr>
        <p:spPr>
          <a:xfrm>
            <a:off x="5643720" y="4640400"/>
            <a:ext cx="85716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difiere 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88 Conector angular"/>
          <p:cNvCxnSpPr/>
          <p:nvPr/>
        </p:nvCxnSpPr>
        <p:spPr>
          <a:xfrm flipH="1" flipV="1" rot="5400000">
            <a:off x="4478760" y="621000"/>
            <a:ext cx="7200" cy="3323520"/>
          </a:xfrm>
          <a:prstGeom prst="bentConnector3">
            <a:avLst>
              <a:gd name="adj1" fmla="val 4673684"/>
            </a:avLst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6" name="95 Conector angular"/>
          <p:cNvCxnSpPr/>
          <p:nvPr/>
        </p:nvCxnSpPr>
        <p:spPr>
          <a:xfrm flipH="1" flipV="1" rot="5400000">
            <a:off x="4372200" y="4099320"/>
            <a:ext cx="5760" cy="3394800"/>
          </a:xfrm>
          <a:prstGeom prst="bentConnector3">
            <a:avLst>
              <a:gd name="adj1" fmla="val 4193333"/>
            </a:avLst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pic>
        <p:nvPicPr>
          <p:cNvPr id="77" name="73 Imagen" descr="marcacion11.jpg"/>
          <p:cNvPicPr/>
          <p:nvPr/>
        </p:nvPicPr>
        <p:blipFill>
          <a:blip r:embed="rId1"/>
          <a:stretch/>
        </p:blipFill>
        <p:spPr>
          <a:xfrm>
            <a:off x="7464600" y="6215040"/>
            <a:ext cx="16081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8T03:13:45Z</dcterms:created>
  <dc:creator>Jhenny Torres</dc:creator>
  <dc:description/>
  <dc:language>en-US</dc:language>
  <cp:lastModifiedBy>Ximena</cp:lastModifiedBy>
  <dcterms:modified xsi:type="dcterms:W3CDTF">2010-08-13T21:13:01Z</dcterms:modified>
  <cp:revision>192</cp:revision>
  <dc:subject/>
  <dc:title>Diapositiva 1</dc:title>
</cp:coreProperties>
</file>